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24113" cy="21243925"/>
  <p:notesSz cx="8488363" cy="12341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8488800" cy="1234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78120" cy="6174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4808160" y="-360"/>
            <a:ext cx="3678120" cy="6174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2597040" y="925560"/>
            <a:ext cx="3294000" cy="46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19160" rIns="119160" tIns="59400" bIns="5940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848880" y="5862240"/>
            <a:ext cx="6789960" cy="55530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-360" y="11721960"/>
            <a:ext cx="3678120" cy="61776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4808160" y="11721960"/>
            <a:ext cx="3678120" cy="61776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5282-9BD4-4272-99DF-87E265168E27}" type="slidenum">
              <a:rPr b="0" lang="zh-TW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597040" y="925560"/>
            <a:ext cx="3294000" cy="46274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48880" y="5862240"/>
            <a:ext cx="6789960" cy="55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投影片編號版面配置區 3"/>
          <p:cNvSpPr/>
          <p:nvPr/>
        </p:nvSpPr>
        <p:spPr>
          <a:xfrm>
            <a:off x="4808520" y="11721960"/>
            <a:ext cx="3678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A888-9D54-4468-958D-108057EDD8F8}" type="slidenum">
              <a:rPr b="0" lang="zh-TW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136108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56000" y="11406240"/>
            <a:ext cx="136108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730640" y="497088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56000" y="1140624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730640" y="1140624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43822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57880" y="4970880"/>
            <a:ext cx="43822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959400" y="4970880"/>
            <a:ext cx="43822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756000" y="11406240"/>
            <a:ext cx="43822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5357880" y="11406240"/>
            <a:ext cx="43822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9959400" y="11406240"/>
            <a:ext cx="43822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756000" y="4970880"/>
            <a:ext cx="13610880" cy="123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13610880" cy="123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6642000" cy="123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730640" y="4970880"/>
            <a:ext cx="6642000" cy="123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56000" y="847440"/>
            <a:ext cx="13610880" cy="164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30640" y="4970880"/>
            <a:ext cx="6642000" cy="123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6000" y="1140624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6642000" cy="123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730640" y="497088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30640" y="1140624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730640" y="497088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6000" y="11406240"/>
            <a:ext cx="136108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51"/>
          <p:cNvPicPr/>
          <p:nvPr/>
        </p:nvPicPr>
        <p:blipFill>
          <a:blip r:embed="rId2"/>
          <a:stretch/>
        </p:blipFill>
        <p:spPr>
          <a:xfrm>
            <a:off x="0" y="0"/>
            <a:ext cx="15122520" cy="5467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5" descr="1219133754"/>
          <p:cNvPicPr/>
          <p:nvPr/>
        </p:nvPicPr>
        <p:blipFill>
          <a:blip r:embed="rId3"/>
          <a:stretch/>
        </p:blipFill>
        <p:spPr>
          <a:xfrm>
            <a:off x="3255840" y="6843600"/>
            <a:ext cx="8344080" cy="7785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2" descr="4567"/>
          <p:cNvPicPr/>
          <p:nvPr/>
        </p:nvPicPr>
        <p:blipFill>
          <a:blip r:embed="rId4"/>
          <a:stretch/>
        </p:blipFill>
        <p:spPr>
          <a:xfrm>
            <a:off x="855720" y="1395360"/>
            <a:ext cx="14266800" cy="519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4" descr="4567"/>
          <p:cNvPicPr/>
          <p:nvPr/>
        </p:nvPicPr>
        <p:blipFill>
          <a:blip r:embed="rId5"/>
          <a:stretch/>
        </p:blipFill>
        <p:spPr>
          <a:xfrm>
            <a:off x="23760" y="1957320"/>
            <a:ext cx="13709880" cy="498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1" descr="圖片1"/>
          <p:cNvPicPr/>
          <p:nvPr/>
        </p:nvPicPr>
        <p:blipFill>
          <a:blip r:embed="rId6"/>
          <a:stretch/>
        </p:blipFill>
        <p:spPr>
          <a:xfrm>
            <a:off x="0" y="17195760"/>
            <a:ext cx="15122520" cy="4046400"/>
          </a:xfrm>
          <a:prstGeom prst="rect">
            <a:avLst/>
          </a:prstGeom>
          <a:ln w="0">
            <a:noFill/>
          </a:ln>
        </p:spPr>
      </p:pic>
      <p:sp>
        <p:nvSpPr>
          <p:cNvPr id="5" name="Text Box 36"/>
          <p:cNvSpPr/>
          <p:nvPr/>
        </p:nvSpPr>
        <p:spPr>
          <a:xfrm>
            <a:off x="2570040" y="666720"/>
            <a:ext cx="110491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t">
            <a:spAutoFit/>
          </a:bodyPr>
          <a:p>
            <a:pPr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1" lang="zh-TW" sz="85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國立勤益科技大學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37"/>
          <p:cNvSpPr/>
          <p:nvPr/>
        </p:nvSpPr>
        <p:spPr>
          <a:xfrm>
            <a:off x="2570040" y="1838160"/>
            <a:ext cx="109350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National Chin-Yi University of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圖片 18" descr="003.bmp"/>
          <p:cNvPicPr/>
          <p:nvPr/>
        </p:nvPicPr>
        <p:blipFill>
          <a:blip r:embed="rId7"/>
          <a:stretch/>
        </p:blipFill>
        <p:spPr>
          <a:xfrm>
            <a:off x="195120" y="21924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8" name="圖片 19" descr="013.JPG"/>
          <p:cNvPicPr/>
          <p:nvPr/>
        </p:nvPicPr>
        <p:blipFill>
          <a:blip r:embed="rId8"/>
          <a:stretch/>
        </p:blipFill>
        <p:spPr>
          <a:xfrm>
            <a:off x="622440" y="682560"/>
            <a:ext cx="1566720" cy="1511280"/>
          </a:xfrm>
          <a:prstGeom prst="rect">
            <a:avLst/>
          </a:prstGeom>
          <a:ln w="0">
            <a:noFill/>
          </a:ln>
        </p:spPr>
      </p:pic>
      <p:grpSp>
        <p:nvGrpSpPr>
          <p:cNvPr id="9" name="五邊形 15"/>
          <p:cNvGrpSpPr/>
          <p:nvPr/>
        </p:nvGrpSpPr>
        <p:grpSpPr>
          <a:xfrm>
            <a:off x="-55440" y="20147040"/>
            <a:ext cx="5230800" cy="712800"/>
            <a:chOff x="-55440" y="20147040"/>
            <a:chExt cx="5230800" cy="712800"/>
          </a:xfrm>
        </p:grpSpPr>
        <p:pic>
          <p:nvPicPr>
            <p:cNvPr id="10" name="五邊形 15" descr=""/>
            <p:cNvPicPr/>
            <p:nvPr/>
          </p:nvPicPr>
          <p:blipFill>
            <a:blip r:embed="rId9"/>
            <a:stretch/>
          </p:blipFill>
          <p:spPr>
            <a:xfrm>
              <a:off x="-55440" y="20147040"/>
              <a:ext cx="52308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20178720"/>
              <a:ext cx="4971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pPr>
                <a:tabLst>
                  <a:tab algn="l" pos="0"/>
                  <a:tab algn="l" pos="2076480"/>
                  <a:tab algn="l" pos="4152960"/>
                  <a:tab algn="l" pos="6229440"/>
                  <a:tab algn="l" pos="8305920"/>
                  <a:tab algn="l" pos="10382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26"/>
          <p:cNvSpPr/>
          <p:nvPr/>
        </p:nvSpPr>
        <p:spPr>
          <a:xfrm>
            <a:off x="250920" y="20066040"/>
            <a:ext cx="44910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1" lang="zh-TW" sz="5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機械工程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五邊形 16"/>
          <p:cNvGrpSpPr/>
          <p:nvPr/>
        </p:nvGrpSpPr>
        <p:grpSpPr>
          <a:xfrm>
            <a:off x="4857840" y="20458080"/>
            <a:ext cx="10321920" cy="712800"/>
            <a:chOff x="4857840" y="20458080"/>
            <a:chExt cx="10321920" cy="712800"/>
          </a:xfrm>
        </p:grpSpPr>
        <p:pic>
          <p:nvPicPr>
            <p:cNvPr id="14" name="五邊形 16" descr=""/>
            <p:cNvPicPr/>
            <p:nvPr/>
          </p:nvPicPr>
          <p:blipFill>
            <a:blip r:embed="rId10"/>
            <a:stretch/>
          </p:blipFill>
          <p:spPr>
            <a:xfrm>
              <a:off x="4857840" y="20458080"/>
              <a:ext cx="103219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 rot="10800000">
              <a:off x="5062680" y="20486160"/>
              <a:ext cx="100598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pPr>
                <a:tabLst>
                  <a:tab algn="l" pos="0"/>
                  <a:tab algn="l" pos="2076480"/>
                  <a:tab algn="l" pos="4152960"/>
                  <a:tab algn="l" pos="6229440"/>
                  <a:tab algn="l" pos="8305920"/>
                  <a:tab algn="l" pos="10382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Text Box 27"/>
          <p:cNvSpPr/>
          <p:nvPr/>
        </p:nvSpPr>
        <p:spPr>
          <a:xfrm>
            <a:off x="5427720" y="20399400"/>
            <a:ext cx="956304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Department of Mechanical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1"/>
          <p:cNvSpPr/>
          <p:nvPr/>
        </p:nvSpPr>
        <p:spPr>
          <a:xfrm>
            <a:off x="3979800" y="2925720"/>
            <a:ext cx="7162920" cy="1508760"/>
          </a:xfrm>
          <a:prstGeom prst="rect">
            <a:avLst/>
          </a:prstGeom>
          <a:solidFill>
            <a:srgbClr val="ffff00">
              <a:alpha val="90000"/>
            </a:srgbClr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     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字方塊 2"/>
          <p:cNvSpPr/>
          <p:nvPr/>
        </p:nvSpPr>
        <p:spPr>
          <a:xfrm>
            <a:off x="5508360" y="505944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碩士論文口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字方塊 3"/>
          <p:cNvSpPr/>
          <p:nvPr/>
        </p:nvSpPr>
        <p:spPr>
          <a:xfrm>
            <a:off x="228600" y="6811920"/>
            <a:ext cx="144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題目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字方塊 5"/>
          <p:cNvSpPr/>
          <p:nvPr/>
        </p:nvSpPr>
        <p:spPr>
          <a:xfrm>
            <a:off x="135000" y="9408960"/>
            <a:ext cx="1512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口試委員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○ ○ ○  </a:t>
            </a: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職稱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校外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校系所或單位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○ ○ ○  </a:t>
            </a: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職稱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校內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校系所或單位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○ ○ ○  </a:t>
            </a: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職稱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校內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校系所或單位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字方塊 6"/>
          <p:cNvSpPr/>
          <p:nvPr/>
        </p:nvSpPr>
        <p:spPr>
          <a:xfrm>
            <a:off x="152280" y="15627240"/>
            <a:ext cx="1449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口試時間：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____/__/__</a:t>
            </a: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星期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__)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00: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口試地點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字方塊 7"/>
          <p:cNvSpPr/>
          <p:nvPr/>
        </p:nvSpPr>
        <p:spPr>
          <a:xfrm>
            <a:off x="2532240" y="18013320"/>
            <a:ext cx="1051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歡迎蒞臨指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1174320" y="14584320"/>
            <a:ext cx="868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1800"/>
                <a:tab algn="l" pos="828360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口試學生： ○ ○ ○  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究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7-29T04:42:56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